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dt" idx="40"/>
          </p:nvPr>
        </p:nvSpPr>
        <p:spPr>
          <a:xfrm>
            <a:off x="3847680" y="-36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 type="sldNum" idx="42"/>
          </p:nvPr>
        </p:nvSpPr>
        <p:spPr>
          <a:xfrm>
            <a:off x="384768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5A6655-DD28-46E8-AF3B-914C1EEB1EEA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投影片編號版面配置區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1DF7A1-E80E-4AE6-BDDF-FAE4C4BBA9F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E62-D482-4FA8-9F78-3845CC61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6D2-9849-49F7-8924-E07BC061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3A9265-8F03-4AC7-B0BA-33205738D24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9ADB02-EB2C-4EF7-BE50-5BFA98FD59B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7AB817-082A-446E-B734-A5CC1860B55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0EECD-1213-4866-84D5-18771309FC9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2A6EF5-16AE-4F72-BB57-E443069298C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647F1-700E-4F83-847D-95A5637AAD1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C202F-F54A-41D9-909E-42BEB7CF719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034608-499D-417E-B66F-3958FBA65E0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EC0BD-3878-4E46-9F87-23D6D825271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2E64B-8D68-4800-9DDC-FCA8DBD8E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A64-5068-45BD-AED2-90FD20AF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9463E-898B-4C09-8E0D-0F753D84429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AF2BD-CF7D-4FC8-86EE-0B656CDF5E6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0D531-CF2C-4744-9811-C2779D41626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32493-295C-49D1-B1A3-E8667D26BEF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79E5-B829-448A-B3ED-98E6FECFDCF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88C84-6E2F-4DEA-A2B2-B06C45FDEC5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4CE6E-A846-48AD-9808-628631324BB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CD54D-8974-420D-9652-1BE7E541320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DBA45-965D-40BF-BACC-611964C6892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54BED-A39A-4F4A-8C35-B4A04287A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8B3-D970-41B6-B5DF-5ADAC784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1253E-94FE-44A7-834A-6A88273036A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288DA1-CF81-4345-AF22-5FB1A394A17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77EE10-5E3C-44C4-A796-B9567EC089F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4C0625-CA43-49C8-950E-41DB247E3C9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2FAAC0-7EF7-410A-AFF9-26582016B18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EA145B-D318-49A2-98C8-AE0E1828051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FAA2DB-7E28-4681-976A-57F434783ED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4746B-C5A1-4A90-8150-8B6D78A7B0C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9591FF-D194-4C24-BDC1-A77BE59541B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E70127-746E-4EA2-B111-1AFC4AC43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C090F-A425-4B85-A021-9E21A3588B0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215F65-2FDC-4885-A0F1-F4AA71D7591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351641-75C4-493A-9406-59111D196EA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143A53-9B7B-4308-AB23-E7A3F3C6A0A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6F7A5-0777-458C-92F9-8EF328974B9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B2774-60B2-4B29-A3D4-3F589063A79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D072BE-9314-40C3-B169-52C81D52230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83DAB-E1AB-475C-AE28-F3E3BB8689C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3142E-E69D-4883-A8EC-BC26EAC7C2F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AA151-E839-49C6-9D41-9B085DA634B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B8661-3543-423D-B2A5-6EEA77D579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69C06-E177-4C12-9F01-BCDBE53B0A6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A4A4D-AC3C-4E2C-B252-C4ACBA00D43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63D9B-AC9B-4D0D-9547-FBE000998BB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386CD-BFB0-437D-8BA6-B696EC3319F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4FD59-61D3-4398-9E56-9B353B2C5B6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F60A46-2450-4DB9-9F70-FD322FCC1AA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8155D-8EC8-461F-AF9E-C8EA7002442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10748-1217-45A6-B8BD-8E811514350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860E2-8537-4844-A744-E6B9A9EB3FB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9D00A-6799-4997-A9A7-BBF72BAFA24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0EDF5-B23C-4E0A-B2F1-D67ED52464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F8B01-1A93-4BD6-82B2-969AB98B999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F61BF-25D3-45D3-B831-5D50ACE6E98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64C07-37F9-4402-917F-64004DE407E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F82D4-DDD3-4D39-8E18-0F0A9F0FF82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63EE7-3317-40B4-943A-7FA219F1CFD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31929-6A74-45E0-A561-7ADE35C25AF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52059-38D6-4C7A-8136-58DFFEBCC54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5ED62-DAB7-494C-968D-F23CFDE23D1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894CE1-EB2D-4D35-A28D-A774543E567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077787-83C2-4914-8D21-DB861601F5C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E57159-4901-4C02-A798-36615B831F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4B6E6-AF8E-4EF3-9AA1-297C77909F3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FCE53D-E149-442F-A623-EA711F6C39B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8AF152-6F30-4219-B3E3-0B66C8102C2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4F291B-18EE-49C2-B658-40E33C15277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FBA35D-9E8B-42F8-91BF-77F1133D709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5244CE-9067-404E-B59A-DB887CC7AD2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554954-D33B-46D0-9DE5-11DA1BF01ED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1C3B38-77DC-43A3-928A-5DE4A031CB6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BA3B6F-DDAC-4E63-BC79-127F9D5CB78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C2458D-7C6D-4A46-8FA6-28B0C04C6AC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945406-F0A7-4C84-A70A-EA7C2A8B90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8EECC-1086-4BEA-AA5C-7A7E51E190B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8D28C-1FF5-40F8-BE11-1E8DDC4E438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5055B-036E-45F0-B6A0-02E9D19B31D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31000-5689-4755-BE71-FA3ECD30E3A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3BB85-BB7B-4284-8EBB-E4466B3CE9F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FABF20-1256-4EFB-BEA2-C6834E42C37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E64FF-F47E-4A8B-851B-F70BBB80C83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E1997-11E2-4DDF-902A-9A9C32492FD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B872C-3F36-42B8-A331-8B90BD6B3D5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AD225-5488-49EA-8917-055FE0FB0DF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E371B-BDC7-4301-B867-A3272BE9D5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744E3-F36F-42E9-8289-63834BE93F4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95CC1-7FDC-421E-AC1E-0AF13CCDA68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A97A1-6E41-4C43-A1C4-9BD6FEAD0B6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908C8-D47E-4525-8B0C-5D92B88F71C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56936-2600-4F44-B6E3-22ABB300DBE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BC76C-6DDC-4AF0-B8E2-DCD102658C4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4F513-0783-4E12-9F59-78C0D978C51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FD946-594B-47E7-8802-CE2CD80D833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FD841-9521-44EA-8772-B64AC725C33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C8941-DA34-427E-87DF-115D57F4661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27926-1819-4D1F-A1FD-C22C11529C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ED17C-0D8D-45A4-A054-5BBD797BB48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72F36-97C0-44CA-94A2-6F4B5943415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012BB-B896-48C6-BAB9-0EFE0C0DB43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B5AEB-6B5C-4E80-BEA1-1223A5219B7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62D23B-93FA-4F30-ADD0-21D6F87968A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F2AD14-D6E7-49C3-8D88-C00A4EA7400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FBE930-0BE7-46BE-9920-46F7FB872DD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3CC139-AB9C-4894-8652-4160DB2CEFF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8A4E8F-A381-4338-BF14-6BB5B413917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E3DC9A-75A9-4AB4-BFAC-C3D89BF4EE2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99A72C-2B7E-4132-8F48-F5ABD77F45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D7D-CCAB-4819-9B00-0254DB8F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7BEA4-942D-48FE-84C7-BB108EE6840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F41F41-C50F-4753-AE59-B3E04CF0616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18D1ED-A717-4A9F-8647-D4A1C94C1C2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434686-851B-4B6E-AD65-D89F22BB822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3C8B3D-BC7A-4A79-B8F2-0E12D2ADFEF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9C12B5-7647-4825-B940-34AB5221234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14B1D-84B7-406F-963C-CF0715AEA6E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8875A2-8B46-44FC-8704-C1942111D2C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1C9538-1516-4BDF-B4CC-40AFAD57E9A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58C9EF-DB9E-43DB-B027-5ADDCB8FE16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E05A6E-E57B-452C-8C70-1F0B3012CC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C6200-8A88-465F-BCF8-0646422B85D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4FB422-39D2-45CF-A7A5-85F81364F5D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3A579-2899-4311-9EB1-1C7C1EDD93E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82A62-2720-4348-96BD-3232A19D7D4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DF1C1B-3137-40D9-8938-6747D340365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C4E944-3E48-4D5C-9B22-09762D18687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C9D01-A5AB-42AF-9EAF-BFF36954C2E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297A1-38C6-4480-B0BB-BCD8D8682F5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9D1C2-BE53-4FC5-9E6A-B1EE9F81200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0492F-B632-4C12-AB69-902620FAC68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564B9-ABF3-4AAC-BDE8-F05677D235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DB447-D4A4-4DFC-B344-AF5FEF32950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B030A-6845-49A9-83D1-0B15012C942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3874D-F4C3-4C79-A8DD-95D1D497F80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7BA2F-E62E-4691-8406-B370C7ADE4F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A7F79-CD05-4A03-A3F5-B6C9C8076A2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F0AC6-1B10-4551-9316-FC07B1F9F90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816E9-218C-46F6-844B-DADC9659D5A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3E276-D48B-4654-9CA4-2D3AA1DAAA9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69DEA-CB0F-465A-8329-6FE9B3FF5C3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B0B78-0255-4B9F-B29F-ED2209B5A68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236342-4316-46B0-8247-755BCCA2B3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E9313-8F82-4752-8033-7DD57903981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82F8A6-A9CE-4291-AA07-34B7AABE1C0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9944F5-53C7-4934-AAFB-1DDD6963949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457DFE-9CFE-4DC7-B17C-054128B98FE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09562B-EBAB-45EB-820D-D6D67489EEE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53206B-C569-497D-8869-938692076DA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561FC2-BD1C-41F7-9B79-EB9F6C57215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2E8C13-39DC-4325-8216-D6FF53E0FD0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EC07F7-437E-4D33-868D-66BD013A2F5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C53866-F184-448E-B6D5-0AFCDA8D37E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6144B7-56A4-479B-A274-3EAA16C6B4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2CC8C-54E8-4538-A4EF-AA498223BAF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0BC77F-9883-4C0C-BD5C-31D1FE57BFF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DF95CE-0D53-4E99-AB6D-1B09E9924B5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14EB1E-BAF3-42E6-8A82-3329874ABF1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967649-E08E-4686-9D82-3E61529290C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E662F9-5009-4C84-9D77-F8A097F878C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B34646-3B29-4495-A3C8-F808AD69E6C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F0A9B3-C5F8-4290-89E5-D800D5FDF53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D8D0EA-28CA-4228-A627-E42F8ACDE08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84C0EC-DA52-424E-9734-E33F79D8033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9E27F6-278E-4095-9054-0AD5E87B48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0289E-38D5-431B-98BB-29FB8815F36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4BE6DB-8600-4BDC-B7AB-3275D571A19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753028-F54A-4795-ACAF-90FCB7AAC91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9EFF50-FD42-4799-A8CB-E23F4B19E46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084FD-1DB7-4C2D-B2C8-6003C904FBA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32067-5757-4FDB-BDA2-E60C5E695CC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824DD-1DBE-4A4F-B707-DE5C691F74F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5CF1D-0964-4CD9-BB04-B408CBBDB04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6A222-E0B9-4F72-B5AE-865AAF72B71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33EE6-3D22-4DAB-BC38-5A3DF1660CB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05442-BC4D-4D1D-83F4-CB28B0A857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C5CB4-3192-46C3-8B90-688DFC45142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1E443-CECA-464B-977C-7679CFF5121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77267-D346-4028-A4E2-21BDB899A72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08041-50EF-4741-8251-6DC7851FD4A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A35E6-05AE-4F6C-BFAA-649C8B434FF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194E5-6F1C-4004-8891-67DA879C050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A8EFB-D2F2-4528-9A32-555A336DE96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958F9-34CF-4AE8-A62F-E653658C804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0D8B5-8CB9-48BA-A2F6-4491DB913D7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123B2-AC1F-4215-B238-4B0B763CBAE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D52C4-6042-423C-BCE7-19FADBFDCA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E2095-F60A-48C0-B63B-9842E3CD7FA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1F947-107F-4454-B59A-8356754D4E6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E2237-07EF-4A4D-8128-1BBE07BABDD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2A44A-1B80-4C91-96A9-301AC7B31CB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B42CA-5E44-45E6-8780-3250AC64B9E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80BBF-B745-45F9-B25E-7AD68EEB4E5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19D58-8467-4C9D-9D07-F23912E93A6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5ED23B-9D36-4E43-A16B-85E31A33B18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16F162-3D41-45D4-9033-B601E5696D7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3647D9-10C2-49E1-AB72-16D56B6B8A2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58775A-7D6C-4A03-8282-6C4B6F1A60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7DD8B-6C9B-4D31-8EDC-E66C810761E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CBCD11-1634-47E2-AB5C-531A342ED92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ABB9A2-58D5-443B-A333-831B769211E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454ECB-6A90-4583-ACBB-C55A3E095E6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911C50-DADA-4A32-9150-EAA67BC6EE4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45842E-E6D7-45AC-832D-D744E4D5265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B29FE2-0464-419A-9EFE-4D759700CD5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9333C3-67DB-412A-90CE-D79A8F6486B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E1F818-4737-4084-8139-87CF635A3B4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7C2C59-778D-48CD-9C46-556BC6C2C57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59B2D-B53A-4399-914F-727DBEC561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857E9-B97A-4D73-B918-E6FC78BA5FB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9F9D8-22C7-4D5C-A9EE-C6F1C4DC4C7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2E29B-EC3D-4792-8ABF-83100A68F2D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439C6-D8F1-4EC0-9477-2B266CFA632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4CDD0-910D-4C78-B44D-7D7A572BEE3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AE70F-E042-413E-8DAD-AD319F04290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A7DA2-9868-431B-8CF4-1726EBAD3B3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D16AA-9BFC-43EC-B47C-47FCB76756B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5A6A8-A640-458D-9D46-633ADF047E0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0B2A4-EF9C-4CD5-AFB7-957EA1F7B59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5107A-6F40-4C9E-A562-E84B54BF80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974-D10F-4EBA-8C51-C95C1352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5707C-D8CC-454C-97C4-926A5BFBA35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F40D3-C6F2-472C-8278-7B227A9EF70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AEACAC-B31A-4C29-9524-50F2FBBCCF8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F2DB5-CF89-4C6A-ACBA-E5DA867DF33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2F13D-6690-4FEF-83AB-205B3B3EC00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9F868-A536-4AFF-B776-5FAFB7D54C2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141CD-DB4F-4687-A101-405684F2602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B50713-DE1B-41F8-A8C5-6B204D51B7F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9160C-0C1D-4AEA-9913-30AE17B134E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B901E-2A34-46FA-83DE-082DB735C1F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F8392-921F-4BE2-9287-0384184A0D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15DAB-F193-4831-A637-DD9EBD5E37F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8E254-B4E1-4294-898B-F16DFBBBD88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F9A09-8BCD-4BD0-AC63-4876A334385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71EC5-89FC-4C0D-8C1E-42C387BD2CA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11E0CE-C959-4D1C-BA89-A8BE1F3B60C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EFA3E0-F4C7-42E9-95A9-4DA0050A6BB1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E864B5-15EE-45B5-BA82-18081DB8A312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B72785-B0E5-4913-BCA5-29F1C8C144C5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A89620-D232-4947-9F01-6B7C7BE81D38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B11614-BE6D-41A1-9068-A2A7AE630D0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67D0E5-1F5B-4E52-B3C0-9EE9767154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8704C-7D67-4329-8318-05AECB9A26D6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68931C-0C7C-4A3F-B9DD-1019EDE14874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E15167-36B6-4391-AF6E-0DE65F41CB0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62972C-EFA1-47B7-B383-0927054CE452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5035A3-C42D-4BB0-8C95-7099FFE57895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61377A-C951-404A-B177-35AEAF9059F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AFBD2-F755-4635-9696-9937EABC7FED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F5B7D-38DB-40D8-9C16-4868CE4E4BC8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EBF0A-4D0E-4E83-8F21-A49B92423E5D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B22AE-8D69-4B72-8DA8-9EF50E5DAAE7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96222-AF27-40B0-AB52-7A14EAD866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EBAB9-C5CA-41F1-A207-5EF5A1F785AE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26315-7984-4FA8-BB6F-425332829AB0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D0F94-FF4E-4A39-8B5F-028C45A06FF4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856DD-36F4-48EE-B05B-EA72F7501B9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E1DCC-C1C9-4365-A7CE-7123BEBA8EFD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2D90B-FD2C-4EFF-ACD3-78B8E7CF478A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D6B31-B2DD-4ACE-B1D7-CAD380FE0815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CED17-D9D7-4515-A34F-561392C5F6C3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0D407D-4CCE-4211-97D1-9A0526CF3D9F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F29ED95-2A7A-4087-9E7A-018BAF54B34E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29835B-D347-47BE-87AF-255371251B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DD5D0-DE2F-4608-8204-80A0F8639581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EEE7CF-1161-4D50-862B-8A21EB94B5C3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92DF41-3B8B-463C-A1E7-FE44C58C4514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CAB1BD-15CA-4013-9F2C-31990FF46425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C64011-8694-460A-8080-9D77C3BD4AB7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7A8476-8062-4964-8552-3B09F54E7486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5428A8-601E-4581-8E6E-54FBF0E6532F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6EAB35-831C-47A6-856B-8B6CB48E5A7F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CB2CD8-748F-47F6-AADE-AADDD37C5644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5E7779-EEBF-4E50-BBB4-006A2A2FC7A4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8058E2-0A13-49F1-9DDB-BAEDF5DA23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D9355-878C-4F4A-8614-63B5BE9063D2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A5A558-A51A-4121-AB00-90D933B9CAAC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1125CC-550F-4262-89BD-8D0870438AE0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387862-9C8E-46B9-9359-F5D3C73688EE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107082-D6AE-46E2-AC34-572E1C4AFD4D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448BA9-4A73-4F96-AC55-EFA44C989080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25B4D4-E6FC-4E16-8876-9079E423F059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4B74E1-D272-4087-BA85-CC59291DFE8F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B9504C-7F5A-43A6-B781-AFFE9E587C99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AAC105-1E2B-4F13-B3E2-F331C51CEF08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EA2807-31AA-4357-9FC0-22F578409C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2B008-1D0D-4945-8F26-9F205C35E01A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92B4AE-A77E-4C4A-B58D-DF902AE9A3C5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8F678-F7BB-4D8A-BC34-DE72FD15890C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DB77C-82E0-4DC4-A8C6-78F176F67DF4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96240-B6FC-4F3B-BCB6-9519ADC7595B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6C757-A521-4902-94AD-8C4A329C0333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3C153-7D0C-48C5-B678-A02F0A0ED224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38547-446A-4702-B8D0-0BB8CBA16DBA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F26B2-B1BB-4324-B7F4-5A1B4DA782EF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B1A33-1A76-44EE-AA28-4A956E0A50DC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3347D-FDAB-42D1-B2D9-BBBC98F00A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DC6D-8C60-42DE-9FAA-E33BFB04DABA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8C221-10A0-4AB3-B8EB-D54220F05084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64E33-A043-4A68-BB3C-488C987ADC00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1B009-C18F-4FF4-B055-D9951318D92B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BE8C8-1438-4A71-A4A1-C0ABB886F3EE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5E928-652C-4C6C-8C68-818065F51435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7DFAB-92B5-417B-B147-784A2DA583CD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7511C-DC66-4234-9BFE-30FCC270D1F5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B92E1-4C2E-44F9-AA0A-CFDC2420EB01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F09D6B-365F-4CDB-BD3D-946C1566BABE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B8876-606C-4346-A8AB-0644FBA5F2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FD25-395F-4223-95B7-87DB5F9C705D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9215B-02B5-4141-85A4-BDE430DAFB20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63EB7-93C2-4756-A8B1-8C262B2F7146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6D898D-F43C-47FE-A930-21AE7046878B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91575-B611-4716-8F87-F244A5FD6147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10F62-9556-4A73-9CAE-F24C9A16140C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6631A6-E98C-46EE-A40A-6D0463FFEF34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BE587F-8D22-4CA2-A783-EF9E2B627E23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AFC195-96A1-4E92-9C5D-577E94265A0F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16E855-26C6-4EEC-9F58-8F4BAA7F11F6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32380F-0BAB-4945-B085-9678073148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3888-79A2-4BD7-B9D8-970F3349F232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53CB67-889C-4AEF-9F2D-49CF724D9BE1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C26D92-73BA-408C-A953-64D4F2B897B0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C81509-AAF2-4F0E-AD13-2942540F2495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8666C8-F436-466E-8D21-883E1552053A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077CF4-3C56-415E-BF04-A31A3E4FF6E6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58B2D2-FB6C-4A5E-A821-41DE408F1C66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E26B6F-E3E2-46B4-8E29-FF835BC0ECCC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57790-128A-4051-A796-EC5D08C05C28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CAE5E-ACA1-4D23-829E-F36C0AED6A3A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C37A2-A969-4DF6-8436-9A4424996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D0C9-AF50-43EA-88F6-C981AD00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E0B1-62FE-4EA3-AAA0-95D9C295B1CB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6C4F3-209E-450B-87E2-A003CAFA2B52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AF675-A0ED-4008-A8D7-10B324E5F5CB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B6C80-B414-4A02-8CC2-D21A266944D2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F6D9E-15E4-4523-9014-FF026E5F9F41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2B9FB-0CC0-4D55-82A3-31985AD5965D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51C1F-9616-4880-B7A6-39EEEA1F57F4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B8649-DE26-483A-9FDB-516C28402717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AB1AC-B539-4368-AABA-4AFF3699F63F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A1D63-0937-478C-BD0D-F2D2241E7E2B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D41C3B-F864-4780-AF19-C01F8C31E8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A982-2553-4EEB-A93F-6A95E32B2C7F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46FADC-4660-4000-9C09-204CCFEB6935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091DAF-629D-43E0-B6B1-DAC0B40BF4A9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2FFC86-13C6-473C-8F68-429D73A05F71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5B9712-D5DD-45DD-8F08-66A97FA9F628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294591-04E0-4948-83EC-C36F57309D57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FD329E-81F5-4F1D-AECC-83CBC4757142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DC8FA5-E70B-42A1-97EB-465E51D518AF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A3AB44-8F74-4812-BF59-D97F6DD80AA5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0A2F07-63DB-425B-85E1-526A254D62EA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6A623E-5B72-43AC-8FA3-6AD83C5738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C690-6908-47D4-BE9A-A7537E69935E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62EBD1-CBE2-486C-84A2-9204B63FFD8C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0EB293-DB4F-4C23-AF7A-49E26A107EF2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A796DA-FCA9-49AE-8A3D-6C1B345234EB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2F9990-0B61-4AFD-9929-EAD468F125F8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2513CC-A1FE-45D2-84E2-86F4F4EE659A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D710A8-53A6-40A9-A3A9-F6059EF9161D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CCDA55-074F-4D86-ADC8-E85CA9148FD4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5F75BB-2355-4823-9370-5FD3121BE62D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4B1630-5EB2-44B2-8A1D-57F466376484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B5A6AD-308E-4BA5-8972-1D96AB061F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070F-EE74-42B5-BA2C-2EF3DD62DD5A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E32878-BC70-43F3-98A9-070CDC10967D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77F48C-63E1-462D-9219-956A3248F326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11E64C-D959-4359-BC90-58410765FB27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C6240-9ED2-49E2-885C-A5225F2154A1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45B34-CAB1-41FB-9695-AA30FC92D58F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1BCE3-C987-4956-9EFF-44C5C123CE11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898C9-8000-4357-AEBB-C4D0486731D8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1F3AA-27B4-49EF-81F3-E4F032E797A2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E9FD1-D4C4-4465-AD40-9BAD5548EE0B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F9EE62-2485-46C7-874A-8B3B0FFB45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9124-FBB5-43C5-8742-B3669436DB0F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2B77A-D9EE-4D1A-B3FB-40F340B1B5A4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AEEE4-12FB-4421-B8E1-8EFA3918D5D2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69288-7DA3-43E1-95E7-FC697D433992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7597C-A3F9-403B-AE9E-FFD901D8FCCF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9BE87-2627-407C-B0E0-3B7DE0A0F5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4980-19CD-49AB-BB5F-C552119126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083C-9775-4C87-B3EF-5DE1F09F27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EDD0-42A1-4FBE-8FD4-9B0DA4D70D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67E1-0875-4473-9612-7060CD7FA09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BE88B5-02C0-4097-AB7E-75C5775B6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0A6-EAA8-47FF-BB84-8AE41480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6B92D7-D987-4E6D-A24E-7C758CE0CBC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719EA7-BB6D-470A-A982-D9DBF29FFD7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3EF4A5-3470-4C8B-8DE8-779C498CFE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814749-518C-44BC-B634-03A3ADBAA6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518190-A926-4BB7-BE10-7D815F8DBB4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CE59CD-940C-4C48-A41C-C76006B923A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61B55B-CB5E-4AF0-BF0E-CD52229610A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F9A080-C964-4E9F-B2F7-AAB1E23B463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9D625D-5C64-472D-AE96-0B5241B1987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66D83D-44BB-430C-B524-8F6E0F767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E01-A37A-4BAB-B5EB-5EB77168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561A51-C7DE-47D2-A184-5FDD1EC1880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CEFC5-D019-4694-8794-2AF9697F865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C98AB-C3E9-43E0-9D85-A5CBCEF0485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79D69-A74E-4A68-BFED-F185BE62E59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627DF-4BA2-44C3-9276-057335A9D55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AB20E-6DEB-4E76-9B58-CDCBBF9D97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7F26B-FBC3-43C4-830E-93B99A583D2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E9F4F-173F-48E2-A65E-21BB3149BB4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B6BCE-87D3-41A4-A058-7AF8FE7D973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64C34-1BE2-48FF-8DF5-BD981712C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C1A-AB61-425D-8CCD-D3C1C27F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FA0AE-7A4D-495B-9231-8747EADB8E2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6A455-1150-4B88-8F95-90FBDFCA7E7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E2C18-711E-4A78-80F7-4A4D69D1FF3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652DB-F928-4479-A59F-F755175F16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E6AE4-F6BD-435C-945A-4B33104F87C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12E65-2C10-4640-911A-BEAF2AF1098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9DBFE-745D-4092-A2FF-AB4312A8621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B5A38-9D70-4CF7-B7F2-1374BB4BA07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B33F3-A2CD-4773-B4AE-D6D3C7C96DF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D343A-A404-4621-9C01-709720D08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FE9-6819-4FCC-A811-DBE31DF0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BC303-0875-4BBF-BBEE-2A8BEDCAC56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667B2-FC76-4860-9F35-BAB917761B4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AD8D-BEA0-45FD-9812-AEFCA8E53E3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4B92-CD02-43A6-8100-BBA53868D33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CB2D-74D2-41F9-839D-4916F75B2D5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39CB54-C97F-41A1-8A8A-D4C830D91BA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70A4C7-9153-4CBE-913B-29197520EA5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F873A9-9243-469C-80E4-64A40E112D8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307D77-3CF7-4C60-A4CA-83691B6ACFC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64B534-95AD-46A7-9304-7A0B4FF74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2B3-3FC4-4FE8-8345-AFCF06D2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473553-E370-41E7-96AB-4F8EB6DD9B1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8CA276-CE8D-4EF5-A760-CB2FA15E6F9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78DF34-A387-4AB5-9159-94CC085CDAC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9D4D94-1D97-4330-8AE5-548B301C658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A6DD80-A1F9-4208-B0BD-78530BEA258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9AD7E-428D-47BD-97E7-30D309231F4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89C512-5E88-4DE0-982B-32AF2605714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F4CE9B-E33D-4470-B36D-C92A40C0E36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0B5C0B-677E-43A8-9832-25D35EC25F8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82100F-362E-4644-8C4F-53A50C167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"/>
          <p:cNvSpPr/>
          <p:nvPr/>
        </p:nvSpPr>
        <p:spPr>
          <a:xfrm>
            <a:off x="609480" y="10969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6280" y="1439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4FA3-EEC2-49E8-8F70-137BA1D619F4}" type="datetime"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15/0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5241-37DC-466D-91CE-50E6DFCB608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7710480" y="5506920"/>
            <a:ext cx="1122480" cy="1351080"/>
            <a:chOff x="7710480" y="5506920"/>
            <a:chExt cx="1122480" cy="1351080"/>
          </a:xfrm>
        </p:grpSpPr>
        <p:pic>
          <p:nvPicPr>
            <p:cNvPr id="7" name="Picture 9" descr="健康署LOGO-OK-01"/>
            <p:cNvPicPr/>
            <p:nvPr/>
          </p:nvPicPr>
          <p:blipFill>
            <a:blip r:embed="rId2"/>
            <a:stretch/>
          </p:blipFill>
          <p:spPr>
            <a:xfrm>
              <a:off x="7710480" y="5506920"/>
              <a:ext cx="112248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文字方塊 1"/>
            <p:cNvSpPr/>
            <p:nvPr/>
          </p:nvSpPr>
          <p:spPr>
            <a:xfrm>
              <a:off x="8506080" y="5580000"/>
              <a:ext cx="28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2943-2EFB-4F7A-AB4B-A7309031197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6DC4-B1FD-4E32-9D4A-75080AAE1F4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52FF-25A0-4B66-8D7B-970C57DE148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1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DC8B-7700-45B0-A45E-7131938A7B0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Num" idx="1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FC73-8123-414A-ACF3-F2DC4251676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Num" idx="1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694C-DCEB-42C8-8046-C794901ED5E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Num" idx="1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C5C8-F871-4C3A-B0C4-6B2A58D295F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1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2C1F-B995-4FCD-A4CA-EA727E49243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687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8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689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0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sldNum" idx="2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9915-55BB-461E-8454-85B758ED7AA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0BF1-29B1-4E5D-9224-E5FEFB56B01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71E60-9B17-4A11-B0FC-365A37E3963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sldNum" idx="2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CD1D-BFD0-4670-AB56-040DD392EF7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F0BD-4EBB-44D4-A0DA-4C06FED83E6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sldNum" idx="2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1339-C5E8-4DE1-904E-DEC3A8DC933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sldNum" idx="2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8E35-D479-433E-A94F-196EABF5308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sldNum" idx="2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EB5D-511E-4C6D-8BB3-D476A828AD6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sldNum" idx="2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9EC3-0D0C-4FD6-BD5E-8EF6F6E5996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sldNum" idx="2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2173-B762-4BE1-B5A9-6FD5FA10630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sldNum" idx="2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791E-3761-46C2-96ED-6214196012A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sldNum" idx="3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0531-7571-4225-859C-93958EFD4F7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1131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2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1133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sldNum" idx="3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5C30-436A-4815-B412-66ED68EBC8A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85742-9452-4B4A-81E2-CC8FB7F5876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sldNum" idx="3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8C4C-4BE0-459B-AF21-2EFE0F8FD48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sldNum" idx="3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32C5-F2D2-433E-80B0-0493013E34D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sldNum" idx="3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87B0-02E9-4ACA-8BAE-75A3EA0C5EE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4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sldNum" idx="3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BF5C-EC99-44E1-90FF-AEE4CF07EAE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sldNum" idx="3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AB42-0E06-4982-884E-FFC64255DF5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sldNum" idx="3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9D41-515D-43CF-82A8-7F14FE8B864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sldNum" idx="3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9900-C616-4C5C-BC30-6B0F52B4EA1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sldNum" idx="3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4173-6052-4BB0-A54B-13D2D33EFB0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D7EB6-B1DF-4904-A6F9-2BBCB328675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7DF5-6276-4252-A3AC-023ECB9A131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304B-C437-40DA-B9A6-6E710B2F0E8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243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245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08EF-A642-4E5D-9D8C-5502293A3DA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878E-7420-4EBB-97FA-0B775C76A01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66E9-DF10-4CAB-B59D-DED1962CFA8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-360" y="2865240"/>
            <a:ext cx="7348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8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年地方衛生機關業務考評</a:t>
            </a:r>
            <a:br>
              <a:rPr sz="4400"/>
            </a:b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保健類指標規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2274480" y="4597200"/>
            <a:ext cx="569124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衛生福利部國民健康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投影片編號版面配置區 3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8A4F-9F96-48DB-9C75-BBAE40B6884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投影片編號版面配置區 1"/>
          <p:cNvSpPr/>
          <p:nvPr/>
        </p:nvSpPr>
        <p:spPr>
          <a:xfrm>
            <a:off x="867564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7209-90AA-40A4-8F2F-78F1B8DB5B0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1" name=""/>
          <p:cNvGraphicFramePr/>
          <p:nvPr/>
        </p:nvGraphicFramePr>
        <p:xfrm>
          <a:off x="93600" y="1197000"/>
          <a:ext cx="8836200" cy="4946760"/>
        </p:xfrm>
        <a:graphic>
          <a:graphicData uri="http://schemas.openxmlformats.org/drawingml/2006/table">
            <a:tbl>
              <a:tblPr/>
              <a:tblGrid>
                <a:gridCol w="2778120"/>
                <a:gridCol w="441360"/>
                <a:gridCol w="2567160"/>
                <a:gridCol w="438120"/>
                <a:gridCol w="261144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14320"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肆、癌症篩檢與檳榔健康危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肆、癌症篩檢與檳榔健康危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細部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302920">
                <a:tc>
                  <a:txBody>
                    <a:bodyPr anchor="t">
                      <a:noAutofit/>
                    </a:bodyPr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達成率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口腔癌篩檢品質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達成率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PV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疫苗校園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口腔癌篩檢偵測率成長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組織性篩檢計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以大腸癌為篩檢重點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V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校園宣導」指標，提倡國一女生施打子宮頸癌疫苗，免受子宮頸癌威脅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篩檢陽性個案追蹤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篩檢陽性個案追蹤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檳榔防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檳榔健康危害防制之規劃及推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刪除成人嚼檳榔盛行率指標並調整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2" name="Rectangle 2"/>
          <p:cNvSpPr/>
          <p:nvPr/>
        </p:nvSpPr>
        <p:spPr>
          <a:xfrm>
            <a:off x="250920" y="12708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AC0C-7B2E-4385-B1CA-403D904D98B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12600" y="1052640"/>
          <a:ext cx="8964720" cy="5194080"/>
        </p:xfrm>
        <a:graphic>
          <a:graphicData uri="http://schemas.openxmlformats.org/drawingml/2006/table">
            <a:tbl>
              <a:tblPr/>
              <a:tblGrid>
                <a:gridCol w="2946600"/>
                <a:gridCol w="654120"/>
                <a:gridCol w="2619360"/>
                <a:gridCol w="653760"/>
                <a:gridCol w="209088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伍、婦幼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伍、婦幼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細部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350388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生性別比之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縮小出生性別差距之醫事人員教育訓練或民眾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母嬰親善的哺乳環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住民及新住民婦幼健康管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生兒聽力篩檢陽性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兒童近視防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性健康促進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生性別比之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縮小出生性別差距之醫事人員教育訓練或民眾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母嬰親善的哺乳環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住民及新住民婦幼健康管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生兒聽力篩檢陽性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兒童近視防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性健康促進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「營造母嬰親善的哺乳環境」中新增「</a:t>
                      </a:r>
                      <a:r>
                        <a:rPr b="0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轄區母乳哺育之醫護人員教育訓練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，以期醫護人員能有效教導婦女增加總母乳哺育率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「滿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兒童疑似異常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分數級距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Rectangle 2"/>
          <p:cNvSpPr/>
          <p:nvPr/>
        </p:nvSpPr>
        <p:spPr>
          <a:xfrm>
            <a:off x="250920" y="12708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7F87-66D8-4B41-913B-16817D4768D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標題 2"/>
          <p:cNvSpPr/>
          <p:nvPr/>
        </p:nvSpPr>
        <p:spPr>
          <a:xfrm>
            <a:off x="574560" y="304920"/>
            <a:ext cx="8001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健康好幫手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</a:rPr>
              <a:t>!  --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守護國民  促進健康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內容版面配置區 2"/>
          <p:cNvSpPr/>
          <p:nvPr/>
        </p:nvSpPr>
        <p:spPr>
          <a:xfrm>
            <a:off x="4421160" y="1906560"/>
            <a:ext cx="472284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標楷體"/>
              </a:rPr>
              <a:t>促進健康 </a:t>
            </a:r>
            <a:r>
              <a:rPr b="1" lang="en-US" sz="3200" spc="-1" strike="noStrike">
                <a:solidFill>
                  <a:srgbClr val="cc0000"/>
                </a:solidFill>
                <a:latin typeface="Bauhaus 93"/>
              </a:rPr>
              <a:t>Prom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預防疾病 </a:t>
            </a:r>
            <a:r>
              <a:rPr b="1" lang="en-US" sz="3200" spc="-1" strike="noStrike">
                <a:solidFill>
                  <a:srgbClr val="006600"/>
                </a:solidFill>
                <a:latin typeface="Bauhaus 93"/>
              </a:rPr>
              <a:t>Preven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</a:rPr>
              <a:t>安全防護 </a:t>
            </a:r>
            <a:r>
              <a:rPr b="1" lang="en-US" sz="3200" spc="-1" strike="noStrike">
                <a:solidFill>
                  <a:srgbClr val="000099"/>
                </a:solidFill>
                <a:latin typeface="Bauhaus 93"/>
              </a:rPr>
              <a:t>Prote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</a:rPr>
              <a:t>共同參與 </a:t>
            </a:r>
            <a:r>
              <a:rPr b="1" lang="en-US" sz="3200" spc="-1" strike="noStrike">
                <a:solidFill>
                  <a:srgbClr val="ff0066"/>
                </a:solidFill>
                <a:latin typeface="Bauhaus 93"/>
              </a:rPr>
              <a:t>Particip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6600ff"/>
                </a:solidFill>
                <a:latin typeface="Times New Roman"/>
              </a:rPr>
              <a:t>夥伴合作  </a:t>
            </a:r>
            <a:r>
              <a:rPr b="0" lang="en-US" sz="3200" spc="-1" strike="noStrike">
                <a:solidFill>
                  <a:srgbClr val="6600ff"/>
                </a:solidFill>
                <a:latin typeface="Bauhaus 93"/>
              </a:rPr>
              <a:t>Partnershi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群組 4"/>
          <p:cNvGrpSpPr/>
          <p:nvPr/>
        </p:nvGrpSpPr>
        <p:grpSpPr>
          <a:xfrm>
            <a:off x="365040" y="1654200"/>
            <a:ext cx="4413240" cy="4162320"/>
            <a:chOff x="365040" y="1654200"/>
            <a:chExt cx="4413240" cy="4162320"/>
          </a:xfrm>
        </p:grpSpPr>
        <p:pic>
          <p:nvPicPr>
            <p:cNvPr id="1540" name="圖片 16" descr=""/>
            <p:cNvPicPr/>
            <p:nvPr/>
          </p:nvPicPr>
          <p:blipFill>
            <a:blip r:embed="rId1"/>
            <a:stretch/>
          </p:blipFill>
          <p:spPr>
            <a:xfrm>
              <a:off x="365040" y="4989960"/>
              <a:ext cx="4398480" cy="82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1" name="文字方塊 1"/>
            <p:cNvSpPr/>
            <p:nvPr/>
          </p:nvSpPr>
          <p:spPr>
            <a:xfrm>
              <a:off x="2517840" y="3666600"/>
              <a:ext cx="2260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9ec105"/>
                  </a:solidFill>
                  <a:latin typeface="Bauhaus 93"/>
                  <a:ea typeface="新細明體"/>
                </a:rPr>
                <a:t>HPA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2" name="圖片 3" descr=""/>
            <p:cNvPicPr/>
            <p:nvPr/>
          </p:nvPicPr>
          <p:blipFill>
            <a:blip r:embed="rId2"/>
            <a:stretch/>
          </p:blipFill>
          <p:spPr>
            <a:xfrm>
              <a:off x="994320" y="1654200"/>
              <a:ext cx="1543320" cy="32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090080" y="480600"/>
            <a:ext cx="805356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大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投影片編號版面配置區 3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0ACB-6C22-4CB3-8847-BF85D40B349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455760" y="134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200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C86F-AAD8-4212-B3BA-D6C5FC36375A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9" name=""/>
          <p:cNvGraphicFramePr/>
          <p:nvPr/>
        </p:nvGraphicFramePr>
        <p:xfrm>
          <a:off x="4356000" y="1413000"/>
          <a:ext cx="4103640" cy="483228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99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衛生保健工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本指標分數係以下列子計畫總得分再乘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健康生活環境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21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老年健康促進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29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癌症篩檢與檳榔健康危害防制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婦幼健康促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＊加分機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0" name=""/>
          <p:cNvGraphicFramePr/>
          <p:nvPr/>
        </p:nvGraphicFramePr>
        <p:xfrm>
          <a:off x="430200" y="1413000"/>
          <a:ext cx="3781440" cy="4830480"/>
        </p:xfrm>
        <a:graphic>
          <a:graphicData uri="http://schemas.openxmlformats.org/drawingml/2006/table">
            <a:tbl>
              <a:tblPr/>
              <a:tblGrid>
                <a:gridCol w="3781440"/>
              </a:tblGrid>
              <a:tr h="1009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工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本指標分數係以下列子計畫總得分再乘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8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菸害防制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＊加分機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317520" y="404640"/>
            <a:ext cx="7200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252F-63CC-44FD-BA7B-B05898936A5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文字方塊 6"/>
          <p:cNvSpPr/>
          <p:nvPr/>
        </p:nvSpPr>
        <p:spPr>
          <a:xfrm>
            <a:off x="747720" y="1413000"/>
            <a:ext cx="67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8</a:t>
            </a:r>
            <a:r>
              <a:rPr b="0" lang="zh-T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年</a:t>
            </a:r>
            <a:r>
              <a:rPr b="0" lang="zh-TW" sz="2800" spc="-1" strike="noStrike">
                <a:solidFill>
                  <a:srgbClr val="c00000"/>
                </a:solidFill>
                <a:latin typeface="Calibri"/>
              </a:rPr>
              <a:t>指標數量及配分說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4" name=""/>
          <p:cNvGraphicFramePr/>
          <p:nvPr/>
        </p:nvGraphicFramePr>
        <p:xfrm>
          <a:off x="539640" y="2276640"/>
          <a:ext cx="7777440" cy="1582560"/>
        </p:xfrm>
        <a:graphic>
          <a:graphicData uri="http://schemas.openxmlformats.org/drawingml/2006/table">
            <a:tbl>
              <a:tblPr/>
              <a:tblGrid>
                <a:gridCol w="1656000"/>
                <a:gridCol w="1224000"/>
                <a:gridCol w="936360"/>
                <a:gridCol w="720720"/>
                <a:gridCol w="1440000"/>
                <a:gridCol w="1008000"/>
                <a:gridCol w="792360"/>
              </a:tblGrid>
              <a:tr h="3661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子計畫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標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子計畫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標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衛生保健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1597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2680-F638-498C-80D1-94ECBECE309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7" name=""/>
          <p:cNvGraphicFramePr/>
          <p:nvPr/>
        </p:nvGraphicFramePr>
        <p:xfrm>
          <a:off x="108000" y="1171440"/>
          <a:ext cx="8893080" cy="5281920"/>
        </p:xfrm>
        <a:graphic>
          <a:graphicData uri="http://schemas.openxmlformats.org/drawingml/2006/table">
            <a:tbl>
              <a:tblPr/>
              <a:tblGrid>
                <a:gridCol w="2519280"/>
                <a:gridCol w="649440"/>
                <a:gridCol w="2590560"/>
                <a:gridCol w="649440"/>
                <a:gridCol w="24843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52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吸菸率下降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吸菸率下降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吸菸率下降目標達成情形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電子煙吸食率下降目標達成情形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因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暫不進行「成人吸菸行為調查」，另青少年電子煙的吸食率已逐年快速攀升，期縣市納入未來青少年菸害防制重點工作項目，故增加「青少年電子煙吸食率下降目標達成情形」；未來將視該監測調查規劃情形配合修正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3400"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平均合格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平均合格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調整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9DB8-E5FB-46AC-B38D-D76D5943DF1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2"/>
          <p:cNvSpPr/>
          <p:nvPr/>
        </p:nvSpPr>
        <p:spPr>
          <a:xfrm>
            <a:off x="250920" y="18900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0" name=""/>
          <p:cNvGraphicFramePr/>
          <p:nvPr/>
        </p:nvGraphicFramePr>
        <p:xfrm>
          <a:off x="179280" y="1413000"/>
          <a:ext cx="8859960" cy="4743360"/>
        </p:xfrm>
        <a:graphic>
          <a:graphicData uri="http://schemas.openxmlformats.org/drawingml/2006/table">
            <a:tbl>
              <a:tblPr/>
              <a:tblGrid>
                <a:gridCol w="2484720"/>
                <a:gridCol w="755640"/>
                <a:gridCol w="2520720"/>
                <a:gridCol w="792360"/>
                <a:gridCol w="2306520"/>
              </a:tblGrid>
              <a:tr h="369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51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菸害防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：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合格率（喬裝測試）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菸害防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：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合格率（喬裝測試）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調整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二代戒菸服務人數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六個月點戒菸成功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二代戒菸服務人數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六個月點戒菸成功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期各縣市加強輔導醫療院所提供之戒菸服務，並提升戒菸成功率，故提高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71C1-932B-4E9F-A888-03E21D1242E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2"/>
          <p:cNvSpPr/>
          <p:nvPr/>
        </p:nvSpPr>
        <p:spPr>
          <a:xfrm>
            <a:off x="250920" y="18900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3" name=""/>
          <p:cNvGraphicFramePr/>
          <p:nvPr/>
        </p:nvGraphicFramePr>
        <p:xfrm>
          <a:off x="128520" y="1268280"/>
          <a:ext cx="8702640" cy="5378760"/>
        </p:xfrm>
        <a:graphic>
          <a:graphicData uri="http://schemas.openxmlformats.org/drawingml/2006/table">
            <a:tbl>
              <a:tblPr/>
              <a:tblGrid>
                <a:gridCol w="2435400"/>
                <a:gridCol w="639720"/>
                <a:gridCol w="2305080"/>
                <a:gridCol w="801720"/>
                <a:gridCol w="2520720"/>
              </a:tblGrid>
              <a:tr h="3733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48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共場所二手菸暴露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職場二手菸暴露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校園二手菸暴露率（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室內公共場所二手菸暴露率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8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因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暫不進行「成人吸菸行為調查」，刪除「公共場所二手菸暴露率」、「職場二手菸暴露率」，增加「青少年校園二手菸暴露率」、「青少年室內公共場所二手菸暴露率」以監測各縣市無菸環境成果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目標達成情形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行政配合及處理時效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目標達成情形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行政配合及處理時效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為加強各縣市計畫目標達成情形，提高其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投影片編號版面配置區 1"/>
          <p:cNvSpPr/>
          <p:nvPr/>
        </p:nvSpPr>
        <p:spPr>
          <a:xfrm>
            <a:off x="867564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A413-F11A-4747-A451-F5708602597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9200" y="620640"/>
          <a:ext cx="9055440" cy="6118200"/>
        </p:xfrm>
        <a:graphic>
          <a:graphicData uri="http://schemas.openxmlformats.org/drawingml/2006/table">
            <a:tbl>
              <a:tblPr/>
              <a:tblGrid>
                <a:gridCol w="2692440"/>
                <a:gridCol w="507960"/>
                <a:gridCol w="2946600"/>
                <a:gridCol w="436680"/>
                <a:gridCol w="24717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貳、營造健康生活環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貳、營造健康生活環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71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生活型態成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成年人及長者身體活動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肥胖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天天五蔬果攝取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生活型態成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歲以上運動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歲以上肥胖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指標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運動盛行率」調整為「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運動盛行率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刪除「提升天天五蔬果攝取比率」，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次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社區健康生活型態營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肥胖防治社區環境評估、行動改善計畫及成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設置社區營養衛生教育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辦理「校園周邊健康飲食輔導示範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職場認證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辦理健康識能推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社區健康生活型態營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肥胖防治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推動「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『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我的餐盤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』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圖像推廣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推動餐飲業者減鹽行動計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廣職場參與健康促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推動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『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我的餐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』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圖像推廣計畫」」及「推動餐飲業者減鹽行動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項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各項指標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6" name="Rectangle 2"/>
          <p:cNvSpPr/>
          <p:nvPr/>
        </p:nvSpPr>
        <p:spPr>
          <a:xfrm>
            <a:off x="324000" y="-100080"/>
            <a:ext cx="8159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投影片編號版面配置區 1"/>
          <p:cNvSpPr/>
          <p:nvPr/>
        </p:nvSpPr>
        <p:spPr>
          <a:xfrm>
            <a:off x="8675640" y="645336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AD48-75A4-44C8-A1B7-41A7DE3A575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8" name=""/>
          <p:cNvGraphicFramePr/>
          <p:nvPr/>
        </p:nvGraphicFramePr>
        <p:xfrm>
          <a:off x="11160" y="260280"/>
          <a:ext cx="9132840" cy="6697800"/>
        </p:xfrm>
        <a:graphic>
          <a:graphicData uri="http://schemas.openxmlformats.org/drawingml/2006/table">
            <a:tbl>
              <a:tblPr/>
              <a:tblGrid>
                <a:gridCol w="2949480"/>
                <a:gridCol w="579600"/>
                <a:gridCol w="3184560"/>
                <a:gridCol w="650880"/>
                <a:gridCol w="176832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参、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中老年健康促進相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参、中老年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及調整指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活躍老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6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長者規律運動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高齡友善社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縣市長者組隊參與活躍老化競賽活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大眾對失智症認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活躍老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6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長者規律運動比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高齡友善社區涵蓋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縣市長者組隊參與活躍老化競賽活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長者參與社區健促活動比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大眾對失智症的認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長者參與社區健促活動比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「提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眾對失智症的認知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，以營造失智支持友善環境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慢性病照護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糖尿病患加入糖尿病品質支付服務方案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醫療院所糖尿病人尿液微量白蛋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croalbumin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之檢查率及進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衛生所慢性病防治照護量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民眾對腰圍警戒值認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民眾利用成人預防保健服務之人數成長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慢性病照護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糖尿病患加入糖尿病品質支付服務方案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醫療院所糖尿病人眼底檢查或眼底彩色攝影之檢查率及進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轄區機構推動健康促進服務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含高齡友善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成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民眾利用成人預防保健服務及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型肝炎篩檢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之人數成長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規劃及推動高血壓防治方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輔導轄區基層診所參與慢性病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含衰弱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預防及糖尿病品質照護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為新增「各縣市成人預防保健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肝炎篩檢利用率」、「規劃及推動高血壓防治方案」及「輔導轄區基層診所參與慢性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含衰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預防及糖尿病品質照護服務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細項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9" name="Rectangle 2"/>
          <p:cNvSpPr/>
          <p:nvPr/>
        </p:nvSpPr>
        <p:spPr>
          <a:xfrm>
            <a:off x="468360" y="-243000"/>
            <a:ext cx="8159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9:44:09Z</dcterms:created>
  <dc:creator>ST</dc:creator>
  <dc:description/>
  <dc:language>en-US</dc:language>
  <cp:lastModifiedBy>健康服務品質政策辦公室周青慧</cp:lastModifiedBy>
  <cp:lastPrinted>2018-11-19T01:58:33Z</cp:lastPrinted>
  <dcterms:modified xsi:type="dcterms:W3CDTF">2018-11-23T10:17:39Z</dcterms:modified>
  <cp:revision>1966</cp:revision>
  <dc:subject/>
  <dc:title>醫學人文導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